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1D3-7425-479F-BF1F-6513D774C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5694-AF23-4C49-9D28-3F20073A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BDD-C68B-4072-BFD9-A086D262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4D7-44C6-457F-947E-EAFECC41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CC6-2A7D-4C6C-90F0-F57B01DD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E09-FCF7-4FF8-B1B0-68991446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FC1-9113-44ED-A0FD-3ACE4DD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4FC-E897-408F-9DC1-62B74806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209-48F5-4123-A289-978FC9B7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698-4679-4E73-AB59-4274A2B2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817-34EA-4D78-A9B0-7BA58EC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461-3AF2-49B8-BD9D-6B5051ED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D33-EB1B-4138-B2D9-4877841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5CE-BAF7-4640-8B4B-E69821DF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1967-69B0-4E07-BCE6-8ED33885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llamo Mirela. Yo tengo catorce años. Yo soy dulce, amigable y cuidado . Yo vivo en Queens. Yo tengo dos herma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¿Qué hace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y tú.                                                 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13240"/>
            <a:ext cx="6508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ás?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37335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da ¿y tú?             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mo. Yo eres muy ti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.  yo quiero vivir parís.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6:16Z</dcterms:created>
  <dc:creator>FriscoISD</dc:creator>
  <dc:description/>
  <dc:language>en-US</dc:language>
  <cp:lastModifiedBy>NYCDOE</cp:lastModifiedBy>
  <dcterms:modified xsi:type="dcterms:W3CDTF">2012-12-07T14:58:09Z</dcterms:modified>
  <cp:revision>109</cp:revision>
  <dc:subject/>
  <dc:title>Profile</dc:title>
</cp:coreProperties>
</file>